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545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1120" y="4668840"/>
            <a:ext cx="5446800" cy="4417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29400"/>
            <a:ext cx="295416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2360" y="9329400"/>
            <a:ext cx="29545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55FD639-80AC-4B23-AD3B-E05A7D23E5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52360" y="9329400"/>
            <a:ext cx="29545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696AAE-1CB4-4D34-AD60-15BECDD914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9329400"/>
            <a:ext cx="295416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0"/>
            <a:ext cx="29541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52360" y="0"/>
            <a:ext cx="29545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0760" y="736560"/>
            <a:ext cx="4913640" cy="3684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2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2360" y="9329400"/>
            <a:ext cx="29545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A67B287-F355-4C5A-B4C5-0E71D939BC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329400"/>
            <a:ext cx="295416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0"/>
            <a:ext cx="29541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52360" y="0"/>
            <a:ext cx="29545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0760" y="736560"/>
            <a:ext cx="4913640" cy="3684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2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797-7C2C-4DDA-A758-8A03E85E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0D7-F44A-4BDD-B773-7E792E0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D4E-E7B9-4EEB-93E7-3B7119A9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5AA-723B-4BFD-8D21-A925FDDE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B23-42E8-45E8-8337-5B7703D4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4C75-FE3A-4D57-9BCD-27BA713A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ED62-807B-4769-B619-3D1FB757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BC59-5DDF-41E8-B86A-D3199552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057A-E8B8-4F42-A7E3-F9AEC56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DF5A-B143-4243-B0F1-AB3ECF9C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A40-92CD-4EA3-AE41-4218CD4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EC2-43B3-4EB2-ACF2-267826E3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0482-E119-4E4A-965B-65C5268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6825-CF33-4016-B797-E144B61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498A-20D9-4065-9A46-6E1CCE5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BFB9-DC17-4A7E-98BA-502680DA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7F1F-804B-44AD-8B0D-477EC78C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A04-C6B4-423B-BB29-930B0DB5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D9E-BFFC-48BE-9B3C-A7E9CEBD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DCF-C07D-4A23-8302-54A4642A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54E-75AB-408F-BA8C-70F570A8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35D-5660-4C46-9BD5-033FA898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BEF-BC67-48A8-AA05-504EAEF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661-B22C-4419-A7A3-BD5D848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7029-0A86-4C8D-80AC-D868AE9131B5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453B-2C1B-480F-907B-32D87277B634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120" y="1060560"/>
            <a:ext cx="7696080" cy="510516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00ff"/>
                </a:solidFill>
                <a:latin typeface="Tahoma"/>
                <a:ea typeface="Arial"/>
              </a:rPr>
              <a:t>SPSS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  <a:ea typeface="Arial"/>
              </a:rPr>
              <a:t>tatistical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P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  <a:ea typeface="Arial"/>
              </a:rPr>
              <a:t>ackage for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  <a:ea typeface="Arial"/>
              </a:rPr>
              <a:t>ocial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  <a:ea typeface="Arial"/>
              </a:rPr>
              <a:t>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52280"/>
            <a:ext cx="4648320" cy="990720"/>
          </a:xfrm>
          <a:custGeom>
            <a:avLst/>
            <a:gdLst>
              <a:gd name="textAreaLeft" fmla="*/ 1274760 w 4648320"/>
              <a:gd name="textAreaRight" fmla="*/ 3373560 w 4648320"/>
              <a:gd name="textAreaTop" fmla="*/ 23760 h 990720"/>
              <a:gd name="textAreaBottom" fmla="*/ 6541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7338"/>
                </a:moveTo>
                <a:arcTo wR="21600" hR="20153" stAng="-7304956" swAng="1068094"/>
                <a:lnTo>
                  <a:pt x="5924" y="520"/>
                </a:lnTo>
                <a:arcTo wR="21600" hR="20153" stAng="-6236862" swAng="1673724"/>
                <a:lnTo>
                  <a:pt x="15676" y="5158"/>
                </a:lnTo>
                <a:arcTo wR="21600" hR="20153" stAng="-4563138" swAng="1068094"/>
                <a:lnTo>
                  <a:pt x="18900" y="13240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533327"/>
                <a:lnTo>
                  <a:pt x="12976" y="14365"/>
                </a:lnTo>
                <a:arcTo wR="21600" hR="20153" stAng="-5028371" swAng="-743258"/>
                <a:lnTo>
                  <a:pt x="8624" y="19003"/>
                </a:lnTo>
                <a:arcTo wR="21600" hR="20153" stAng="-5771629" swAng="-1533327"/>
                <a:lnTo>
                  <a:pt x="2700" y="13240"/>
                </a:lnTo>
                <a:close/>
              </a:path>
              <a:path fill="none" w="21600" h="21600">
                <a:moveTo>
                  <a:pt x="8624" y="14365"/>
                </a:moveTo>
                <a:arcTo wR="21600" hR="20153" stAng="-5771629" swAng="-465233"/>
                <a:lnTo>
                  <a:pt x="8624" y="19003"/>
                </a:lnTo>
              </a:path>
              <a:path fill="none" w="21600" h="21600">
                <a:moveTo>
                  <a:pt x="12976" y="14365"/>
                </a:moveTo>
                <a:arcTo wR="21600" hR="20153" stAng="-5028371" swAng="465233"/>
                <a:lnTo>
                  <a:pt x="12976" y="19003"/>
                </a:lnTo>
              </a:path>
              <a:path fill="none" w="21600" h="21600">
                <a:moveTo>
                  <a:pt x="5924" y="5158"/>
                </a:moveTo>
                <a:lnTo>
                  <a:pt x="5924" y="14782"/>
                </a:lnTo>
              </a:path>
              <a:path fill="none" w="21600" h="21600">
                <a:moveTo>
                  <a:pt x="15676" y="5158"/>
                </a:moveTo>
                <a:lnTo>
                  <a:pt x="15676" y="14782"/>
                </a:lnTo>
              </a:path>
            </a:pathLst>
          </a:custGeom>
          <a:solidFill>
            <a:srgbClr val="00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tle-1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880" y="1047600"/>
            <a:ext cx="7734240" cy="5124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1" descr="المكلا / Al-Mukalla"/>
          <p:cNvPicPr/>
          <p:nvPr/>
        </p:nvPicPr>
        <p:blipFill>
          <a:blip r:embed="rId1"/>
          <a:stretch/>
        </p:blipFill>
        <p:spPr>
          <a:xfrm>
            <a:off x="0" y="19080"/>
            <a:ext cx="9193320" cy="6904080"/>
          </a:xfrm>
          <a:prstGeom prst="rect">
            <a:avLst/>
          </a:prstGeom>
          <a:ln w="28440">
            <a:solidFill>
              <a:srgbClr val="ff33cc"/>
            </a:solidFill>
            <a:miter/>
          </a:ln>
        </p:spPr>
      </p:pic>
      <p:sp>
        <p:nvSpPr>
          <p:cNvPr id="141" name=""/>
          <p:cNvSpPr txBox="1"/>
          <p:nvPr/>
        </p:nvSpPr>
        <p:spPr>
          <a:xfrm>
            <a:off x="2684520" y="396720"/>
            <a:ext cx="6003720" cy="34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28569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بيئة النظام الاحصائي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P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2029" r="27252" b="0"/>
          <a:stretch/>
        </p:blipFill>
        <p:spPr>
          <a:xfrm>
            <a:off x="3228840" y="352440"/>
            <a:ext cx="5543640" cy="5715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>
            <a:off x="473040" y="453960"/>
            <a:ext cx="25542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29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تشغيل نظام </a:t>
            </a: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PS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1363320" y="17701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8720" y="2708280"/>
            <a:ext cx="19242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840" y="3565440"/>
            <a:ext cx="268452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SS for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0520" y="4500720"/>
            <a:ext cx="28386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SS 15.0 for wind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8480" y="2308320"/>
            <a:ext cx="260640" cy="406440"/>
          </a:xfrm>
          <a:prstGeom prst="downArrow">
            <a:avLst>
              <a:gd name="adj1" fmla="val 50000"/>
              <a:gd name="adj2" fmla="val 3898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0280" y="3166920"/>
            <a:ext cx="260280" cy="406440"/>
          </a:xfrm>
          <a:prstGeom prst="downArrow">
            <a:avLst>
              <a:gd name="adj1" fmla="val 50000"/>
              <a:gd name="adj2" fmla="val 3903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4052880"/>
            <a:ext cx="260280" cy="406440"/>
          </a:xfrm>
          <a:prstGeom prst="downArrow">
            <a:avLst>
              <a:gd name="adj1" fmla="val 50000"/>
              <a:gd name="adj2" fmla="val 3903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0" b="8184"/>
          <a:stretch/>
        </p:blipFill>
        <p:spPr>
          <a:xfrm>
            <a:off x="385920" y="374760"/>
            <a:ext cx="8432640" cy="5651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3581280" y="174600"/>
            <a:ext cx="1320840" cy="376200"/>
          </a:xfrm>
          <a:prstGeom prst="wedgeRoundRectCallout">
            <a:avLst>
              <a:gd name="adj1" fmla="val -85458"/>
              <a:gd name="adj2" fmla="val 28902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itle b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4720" y="3897360"/>
            <a:ext cx="2598480" cy="741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Data Editor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34800" y="5249880"/>
            <a:ext cx="129960" cy="52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108160" y="5278320"/>
            <a:ext cx="130320" cy="52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04920" y="4754520"/>
            <a:ext cx="376200" cy="477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79720" y="4786200"/>
            <a:ext cx="376200" cy="47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11800" y="433440"/>
            <a:ext cx="1320840" cy="376200"/>
          </a:xfrm>
          <a:prstGeom prst="wedgeRoundRectCallout">
            <a:avLst>
              <a:gd name="adj1" fmla="val -85458"/>
              <a:gd name="adj2" fmla="val 17087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Menu b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94320" y="1231920"/>
            <a:ext cx="1320840" cy="376200"/>
          </a:xfrm>
          <a:prstGeom prst="wedgeRoundRectCallout">
            <a:avLst>
              <a:gd name="adj1" fmla="val -77763"/>
              <a:gd name="adj2" fmla="val -129745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ool b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59520" y="5181480"/>
            <a:ext cx="1451160" cy="376200"/>
          </a:xfrm>
          <a:prstGeom prst="wedgeRoundRectCallout">
            <a:avLst>
              <a:gd name="adj1" fmla="val -61268"/>
              <a:gd name="adj2" fmla="val 144513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Scroll b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085240" y="4295520"/>
            <a:ext cx="522360" cy="842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320" y="22320"/>
            <a:ext cx="9180360" cy="687384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 rot="19765800">
            <a:off x="728280" y="2144520"/>
            <a:ext cx="7759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225000" cy="689472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133200" y="415800"/>
            <a:ext cx="7452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uestions &amp; Com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94760" cy="6880320"/>
          </a:xfrm>
          <a:prstGeom prst="rect">
            <a:avLst/>
          </a:prstGeom>
          <a:ln w="19080">
            <a:solidFill>
              <a:srgbClr val="ff33cc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 rot="1594200">
            <a:off x="3966840" y="723960"/>
            <a:ext cx="480852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ntents of this Cou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فردات الدورة التدريبية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9476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093000" y="679320"/>
            <a:ext cx="1944360" cy="720720"/>
          </a:xfrm>
          <a:prstGeom prst="rect">
            <a:avLst/>
          </a:prstGeom>
          <a:solidFill>
            <a:srgbClr val="6666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يوم الاو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3200" y="714240"/>
            <a:ext cx="4498920" cy="648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 Black"/>
                <a:cs typeface="Arial"/>
              </a:rPr>
              <a:t>مقدمة عن النظام الاحصائي 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Arial"/>
              </a:rPr>
              <a:t>SP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3000" y="1471680"/>
            <a:ext cx="1944360" cy="720720"/>
          </a:xfrm>
          <a:prstGeom prst="rect">
            <a:avLst/>
          </a:prstGeom>
          <a:solidFill>
            <a:srgbClr val="6666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يوم الثان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262240"/>
            <a:ext cx="1944360" cy="720720"/>
          </a:xfrm>
          <a:prstGeom prst="rect">
            <a:avLst/>
          </a:prstGeom>
          <a:solidFill>
            <a:srgbClr val="6666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يوم الثال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7960" y="3054240"/>
            <a:ext cx="1946520" cy="720720"/>
          </a:xfrm>
          <a:prstGeom prst="rect">
            <a:avLst/>
          </a:prstGeom>
          <a:solidFill>
            <a:srgbClr val="6666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يوم الراب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3000" y="3846600"/>
            <a:ext cx="1944360" cy="720720"/>
          </a:xfrm>
          <a:prstGeom prst="rect">
            <a:avLst/>
          </a:prstGeom>
          <a:solidFill>
            <a:srgbClr val="6666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يوم الخام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3000" y="4638600"/>
            <a:ext cx="1944360" cy="720720"/>
          </a:xfrm>
          <a:prstGeom prst="rect">
            <a:avLst/>
          </a:prstGeom>
          <a:solidFill>
            <a:srgbClr val="6666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يوم الساد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81120" y="1511280"/>
            <a:ext cx="4484880" cy="630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Black"/>
                <a:cs typeface="Arial"/>
              </a:rPr>
              <a:t>التعامل مع الملفات وإدخال البيان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74640" y="2259000"/>
            <a:ext cx="4499280" cy="647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79680" y="3089160"/>
            <a:ext cx="4498920" cy="647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79680" y="3863880"/>
            <a:ext cx="4498920" cy="647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79680" y="4670280"/>
            <a:ext cx="4498920" cy="648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2359080"/>
            <a:ext cx="44085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 Black"/>
                <a:cs typeface="Arial"/>
              </a:rPr>
              <a:t>التعامل مع البيانات + قائمة التحويل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5120" y="3146400"/>
            <a:ext cx="4408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Black"/>
                <a:cs typeface="Arial"/>
              </a:rPr>
              <a:t>وصف المتغيرات الاسمية + الكم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6680" y="3946680"/>
            <a:ext cx="4408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 Black"/>
                <a:cs typeface="Arial"/>
              </a:rPr>
              <a:t>اختبار -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ar-SA" sz="2800" spc="-1" strike="noStrike">
                <a:solidFill>
                  <a:srgbClr val="ff3300"/>
                </a:solidFill>
                <a:latin typeface="Arial Black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6680" y="4746600"/>
            <a:ext cx="4408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OVA</a:t>
            </a:r>
            <a:r>
              <a:rPr b="1" lang="ar-SA" sz="2800" spc="-1" strike="noStrike">
                <a:solidFill>
                  <a:srgbClr val="0000ff"/>
                </a:solidFill>
                <a:latin typeface="Arial Black"/>
                <a:ea typeface="Arial"/>
              </a:rPr>
              <a:t> + الارتباط والانحدا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65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65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6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6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10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1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55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30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7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60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6050"/>
                            </p:stCondLst>
                            <p:childTnLst>
                              <p:par>
                                <p:cTn id="1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22968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 rot="19201800">
            <a:off x="518760" y="2498400"/>
            <a:ext cx="8077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Preface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تمهي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ircl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732200" y="647640"/>
            <a:ext cx="374040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علم الاحصاء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38040" y="2068560"/>
            <a:ext cx="834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هو العلم الذي يبحث في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Arial"/>
              </a:rPr>
              <a:t>طرائق جمع البيانا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Arial"/>
              </a:rPr>
              <a:t>وتبويبها وتحليله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من خلال مجموعة من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Arial"/>
              </a:rPr>
              <a:t>الطرائق الرياضية أو البيانية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تهدف هذه العملية الى وصف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Arial"/>
              </a:rPr>
              <a:t>متغير أو مجموعة من المتغيرا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من خلال مجموعة من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Arial"/>
              </a:rPr>
              <a:t>البيانات (المستقاة من العينة)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التوصل بالتالي الى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Arial"/>
              </a:rPr>
              <a:t>قرارا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تعمم على المجتمع الذي أخذت منه العينة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3360" y="357120"/>
            <a:ext cx="8462880" cy="5670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24" name=""/>
          <p:cNvSpPr/>
          <p:nvPr/>
        </p:nvSpPr>
        <p:spPr>
          <a:xfrm rot="5400000">
            <a:off x="3381840" y="905400"/>
            <a:ext cx="523800" cy="465480"/>
          </a:xfrm>
          <a:custGeom>
            <a:avLst/>
            <a:gdLst>
              <a:gd name="textAreaLeft" fmla="*/ 174600 w 523800"/>
              <a:gd name="textAreaRight" fmla="*/ 448920 w 523800"/>
              <a:gd name="textAreaTop" fmla="*/ 268200 h 465480"/>
              <a:gd name="textAreaBottom" fmla="*/ 398880 h 465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10449" t="7204" r="54224" b="85354"/>
          <a:stretch/>
        </p:blipFill>
        <p:spPr>
          <a:xfrm>
            <a:off x="566640" y="463680"/>
            <a:ext cx="3148200" cy="4791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790520" y="485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  <a:cs typeface="Arial"/>
              </a:rPr>
              <a:t>التخطيط (تحديد المشكل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75680" y="17892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  <a:cs typeface="Arial"/>
              </a:rPr>
              <a:t>جمع البيانا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51600" y="305100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  <a:cs typeface="Arial"/>
              </a:rPr>
              <a:t>إدخال البيانات وتبويبها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28920" y="4371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  <a:cs typeface="Arial"/>
              </a:rPr>
              <a:t>إعداد البيانات للتحلي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0840" y="36892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  <a:cs typeface="Arial"/>
              </a:rPr>
              <a:t>تحليل البيانا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36640" y="235584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  <a:cs typeface="Arial"/>
              </a:rPr>
              <a:t>التقرير النهائ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88200" y="10368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  <a:cs typeface="Arial"/>
              </a:rPr>
              <a:t>النش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47760" y="560520"/>
            <a:ext cx="5743800" cy="56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لمتغيرات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Variabl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2040" y="1362240"/>
          <a:ext cx="8359920" cy="4230360"/>
        </p:xfrm>
        <a:graphic>
          <a:graphicData uri="http://schemas.openxmlformats.org/drawingml/2006/table">
            <a:tbl>
              <a:tblPr/>
              <a:tblGrid>
                <a:gridCol w="2090880"/>
                <a:gridCol w="2162160"/>
                <a:gridCol w="2017800"/>
                <a:gridCol w="208908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المتغيرات الكمي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المتغيرات النوعي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متغيرات النس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 Variab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متغيرات الفئو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 Variab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متغيرات الترتي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dinal Variabl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متغيرات الا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 Variab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91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متغيرات الزمن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مساف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صفر يعكس عدم توافر الصف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درجات الطلاب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أحمد = </a:t>
                      </a: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علي = </a:t>
                      </a: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جمال = </a:t>
                      </a: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صفر لا تعني عدم توافر الصف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وصف حجم نسبي لشيء ما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كبير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=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وسط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=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صغير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=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تغير الجنس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ذكر &amp; أنثى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amp; </a:t>
                      </a: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ar-SA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117800" y="5565600"/>
            <a:ext cx="85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المتغيرات الفئوية والنسبية يتم التعامل معها احصائياً بالطريقة نفسها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</a:rPr>
              <a:t>العينات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828800"/>
            <a:ext cx="8400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ffffff"/>
                </a:solidFill>
                <a:latin typeface="Arial"/>
              </a:rPr>
              <a:t>العينات العشوائية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500" spc="-1" strike="noStrike">
                <a:solidFill>
                  <a:srgbClr val="ffffff"/>
                </a:solidFill>
                <a:latin typeface="Arial"/>
              </a:rPr>
              <a:t>البسيطة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andom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ffff00"/>
                </a:solidFill>
                <a:latin typeface="Arial"/>
              </a:rPr>
              <a:t>العينات العشوائية الطبقية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atified Random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عينات العنقود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uster Samples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العينات المنتظمة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ar-SA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atic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</a:rPr>
              <a:t>أدوات جمع البيانات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ecting Dat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840" y="1828800"/>
            <a:ext cx="840096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ffffff"/>
                </a:solidFill>
                <a:latin typeface="Arial"/>
              </a:rPr>
              <a:t>المقابلة                 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ffffff"/>
                </a:solidFill>
                <a:latin typeface="Arial"/>
              </a:rPr>
              <a:t>الملاحظة      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servatio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ffffff"/>
                </a:solidFill>
                <a:latin typeface="Arial"/>
              </a:rPr>
              <a:t>الاستبيان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ar-SA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stionn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7:41Z</dcterms:created>
  <dc:creator>eng</dc:creator>
  <dc:description/>
  <dc:language>en-US</dc:language>
  <cp:lastModifiedBy>user</cp:lastModifiedBy>
  <dcterms:modified xsi:type="dcterms:W3CDTF">2007-08-09T11:25:42Z</dcterms:modified>
  <cp:revision>661</cp:revision>
  <dc:subject/>
  <dc:title>Slide 1</dc:title>
</cp:coreProperties>
</file>