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4B0-FE8E-481F-92FE-0F4C5969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AF4-55B5-4A37-8C69-D0A3F0BE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522-8C8B-43E1-9567-C16B59F6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712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2920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2504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712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2920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F0D-12D5-4B47-898A-CA00239A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C37E-B1DE-4DA7-A321-7A879DF8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7209-2B99-47EB-B51A-69C1B77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A12-3C3B-4FAF-B670-6FCC7DCE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CA1-018D-4CB8-9C11-8FCF63D5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FDEE-B05C-46ED-942B-6C75975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7A99-0FB8-4852-BB9C-710B6E04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4B07-939A-4FE6-8F0F-3ACAAC5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20D-C0B9-42AD-9FF5-46CEF58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BA24-8E11-4DFE-911A-6670BC63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8E3E-D3C1-416B-989D-80580FA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9FE3-52B7-4C74-8919-81C061A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725-9DD7-4DC4-BD15-E4B5A14D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2712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2920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72504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2712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2920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7C5C-0FDC-4A5A-A707-7126BE73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114-1C0E-4BC4-B47C-D6EEF9B4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0FA-D000-4D17-BDAA-F5232857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8F8-4F3B-4D38-A596-7DA7CDC3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DC8-D6C3-47DB-AF9E-A5CF5736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A3F-C5E0-4ACC-9859-6FED57A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B81-951E-42A3-B81D-63F0E04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C7C-0B67-4A18-B893-C5DCB3B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F2B5-2D11-4C36-A7A8-53247370F4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0"/>
              </a:spcAft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98F6-D77C-4F0D-A069-EB5FE5834B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332240" y="88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nfectious Bronch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cute, highly contagious respiratory disease of chick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ges infected; particularly a problem in laying fl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cks - growth suppression &amp; predisposition to other dis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s - variable production loss and affects egg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keys resis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156200" y="933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nical Sig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les - sni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om have nasal or ocular disch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 may drop 20-5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, misshapen and or rough surfaced sh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 problems may persist due to prior oviduct inf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isshapen Egg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09520" y="1600200"/>
            <a:ext cx="6926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457880" y="121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ostmortem Lesio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CKS AND BROI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mia of trac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ous exudate in trac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 airsacculitis - severity varies with serotype of IB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k causes airsaccul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heal plugs at the bifur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rache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25400" y="2249640"/>
            <a:ext cx="7696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rache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193760" y="1600200"/>
            <a:ext cx="6759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nchial Plug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59200" y="1600200"/>
            <a:ext cx="3228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nchial Plu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25400" y="2368440"/>
            <a:ext cx="76964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irsaccul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716200" y="1600200"/>
            <a:ext cx="3713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457880" y="1066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ostmortem Lesions 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LLETS AND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mia of trac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ous &amp; catarrhal exudate of trac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g yolk perito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pingitis &amp; permanently damaged ovidu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 of 2-3 week old pullets with IBV may cause infertility, salpingitis, and internal lay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ollen kidneys with u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irsaccul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577880" y="1600200"/>
            <a:ext cx="5989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tiolog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navirus - RNA - heat sensi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serotypes and strains with great antigenic variation have been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41 &amp; Conn 46 are used as vaccine and protect against closely related sero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trains affect different organ systems: respiratory, renal, reprodu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important field strains are JMK, Ark. 99, Fla. 88, Holland, 072, GA variant, and many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Urolithia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293840" y="1600200"/>
            <a:ext cx="65595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578480" y="108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fferential Diagno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5562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castl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yngotracheitis - slow 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us Coryza - swollen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an Influ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agno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fast spreading respirato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SA - uses Mass. antigen but get cross reaction with other sero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 - less cross reaction early in an outbreak but difficult to interpret l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N - rises in titer between paired serum samples (2 wks. apa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357800" y="10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agno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and identification of virus- embryonating eggs – stunting, curled, and hemorrhagic - vaccine strains are embryo adapted and often affect embryos on the 1st or 2nd passage whereas field strains may require additional passages before lesions app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IBV serotype - PCR, monoclonal antibody te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tunted, Curled Embryo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643040" y="1600200"/>
            <a:ext cx="5859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389480" y="13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reatmen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and identification of virus- embryonating eggs – stunting, curled, and hemorrhagic - vaccine strains are embryo adapted and often affect embryos on the 1st or 2nd passage whereas field strains may require additional passages before lesions app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IBV serotype - PCR, monoclonal antibody te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483080" y="146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cci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complete prevention of IB is difficult because of variation of field strains and the ability of the virus to change.  There is little cross protection between sero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549680" y="609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evention (Cont.)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CCI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Monovalent - usually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valent - Mass. &amp; Co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ttenuated strains such as  Holland, Ark. 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Fla 88 are used as vacc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rmal after administration of a live vaccine to have a reaction 5 days later. This reaction should be resolved within 5 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626000" y="1295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evention (Cont.)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CCI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LL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used in breeders and layer pullets to prevent production losses and produce consistently high antibody ti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397400" y="6094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vention (Cont.)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al antibody influences success of vaccination in young bird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maternal antibody may block the viremia from the 1-day-old vaccination but the Harderian gland is exposed and produces local prot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often applied in a spray cabinet.  Chick will rub eye on vaccine moistened fea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most breeders should have consistent antibody titers. These titer levels can be used as a guide for proper vaccination time in the progen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543560" y="164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ncubation Period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-36 hours - used in diagn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preading and highly contag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49680" y="914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vention (Cont.)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volves a series of live and/or killed vaccines or a live vaccine every other month throughout the lay cy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eny can be vaccinated at 2 wks. of age no matter what the parental antibody titers are at hatching.  Even chicks that had high maternal antibody at 1-day of age will be susceptible.  Those who responded to the 1-day vaccination may have a buffered vaccine 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 weeks, secondary problems can linger.  Predisposes birds to chronic respiratory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46720" y="149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urse of Diseas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ethod of Spread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borne aerosol from infected bi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contact with short time carriers (about 1 mo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minated premises (about 1 mo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302000" y="88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ortalit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IB usually not significant - although tracheal plugs at the bifurcation cause asphyx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erotypes can cause serious airsaccul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secondary infection such as Mycoplas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phrotropic strains may cause high mortality in chicks and layers.  Causes urolithia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phrotropic strains include Holt and G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027320" y="65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vary, usually 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t frothy eyes with conjunctivitis - swollen Harderian g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asional bird swollen infraorbital sin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ed and c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feed co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ollen head syndrome - the virus gets into the harderian gland located in the eyelid near the medial canthus.  Secondary E. coli is involv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T also causes a swollen head syndr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nical Sig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njunctiv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886040" y="1600200"/>
            <a:ext cx="5373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njunctiv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117880" y="1600200"/>
            <a:ext cx="49114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0:00:54Z</dcterms:created>
  <dc:creator>Stanley H. Kleven</dc:creator>
  <dc:description/>
  <dc:language>en-US</dc:language>
  <cp:lastModifiedBy>Stanley H. Kleven</cp:lastModifiedBy>
  <dcterms:modified xsi:type="dcterms:W3CDTF">2003-12-01T15:18:19Z</dcterms:modified>
  <cp:revision>5</cp:revision>
  <dc:subject/>
  <dc:title>INFECTIOUS BRONCHITIS</dc:title>
</cp:coreProperties>
</file>