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D09-58F6-40FE-B8DA-A4B65450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25040" y="394992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E9A-824F-4813-9CB3-E79FDB30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8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C5A-2974-43C2-BA43-77D2A118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712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2920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2504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712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2920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3C4-9C87-44CA-9BF8-F5E5B4DE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B0BA-F0BE-4802-AE2B-67B4EAE8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D229-ADB6-454B-8002-6FB9624C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0B1B-309A-4150-A5FA-4B3204A0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2843-49B3-47BE-B2A9-67DE3D00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1E28-55E1-423B-A83A-D846AB10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7B8F-9FE2-49D5-8200-31FFE2D8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C4A0-1771-40D3-987A-4DB0FA9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DAE-868E-4454-96FA-84997520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8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BFC5-916B-4CF3-9B7D-1972C59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848A-839C-479D-8D2F-FA76430F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725040" y="394992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0FC9-0B7E-4DB4-9025-4908937F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8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C16F-7988-4E44-91DA-E2755341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2712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29200" y="159984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72504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2712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29200" y="3949920"/>
            <a:ext cx="2477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5145-B30B-4539-8DAB-485903DF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BA3-B86B-4395-8815-9C8A0849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BD2-1EB7-4991-825F-283F091A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9B1-CFA5-47F6-AAA4-0B31FFFA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B2A-D92E-4E2E-A180-9E52ED62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8F4-29A6-4FB9-A0EF-FEA82279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840" y="394992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7BE-AAAD-4A58-9943-F876A88A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37555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25040" y="3949920"/>
            <a:ext cx="76964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DBF-5953-43D0-98B4-6CDD7A3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707E-F644-4DF0-8D5D-A14F6EF0FC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0"/>
              </a:spcAft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1049-5A27-46A9-BC46-EF2BDAD1EC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86400" y="781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vian Influenza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spiratory infection of chickens and turkeys that is characterized by upper respiratory involvement, mortality and decreased egg production in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s most species of bi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3 outbreak of virulent AI (Fowl Plague) in chickens in Pennsylvania and surrounding states resulted in $60 million eradication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more recent breaks, including Mexico and Hong K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yspnea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097000" y="1600200"/>
            <a:ext cx="49532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ortalit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035000" y="1600200"/>
            <a:ext cx="70754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press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53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dden Death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898640" y="1600200"/>
            <a:ext cx="5348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ortalit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624040" y="1600200"/>
            <a:ext cx="3897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yanos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573280" y="1600200"/>
            <a:ext cx="3998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NS Sign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475000" y="1600200"/>
            <a:ext cx="4195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emorrhag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211480" y="1600200"/>
            <a:ext cx="4724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le Egg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151000" y="1600200"/>
            <a:ext cx="48452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452592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ostmortem Lesion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rly non-specif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depending on strain of vir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usitis with mucopurulent to caseous exud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inopurulent pericard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, hemorrhagic and necrotic changes on the skin and the intestinal tr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rrhages in proventriculus and he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tiolog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5040" y="160020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 - Orthomyxovirus type 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Hemagglutinin and 9 Neuraminidase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emely variable in virul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5 and H7 are the most danger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ino acid sequence at H cleavage site is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y virulent AI viruses cause the disease fowl pla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5N2 - Pennsylvania "break"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5N1 - Hong Kong outbreak – 1997-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viruses are extremely virulent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s may be found dead on the n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inus Exudat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717560" y="1600200"/>
            <a:ext cx="5784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emorrhage in Proventriculu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271600" y="1600200"/>
            <a:ext cx="4604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Gizzard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192400" y="1600200"/>
            <a:ext cx="47624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rachea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698920" y="1600200"/>
            <a:ext cx="37494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Lu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473120" y="1600200"/>
            <a:ext cx="61992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scera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768320" y="1600200"/>
            <a:ext cx="56102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349880" y="123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fferential Diagnos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coplas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ca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nith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tion of the H and N type and virulence are essential for control progr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319640" y="1189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agnos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ar gel precipitation (AGP) and EL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s all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agglutination-inhibition (H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s only homologous hemagglutinin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isolation – hemagglutinating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pathology - non-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313160" y="200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reatmen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511520" y="1189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vention and Control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 rea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pulate infected fl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strains are repor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ry the bi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vaccines are available for certain approved a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t only against homologous H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525920" y="1371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ncubation Period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781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- few hours to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virulence of the virus and the route of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sposal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046240" y="1600200"/>
            <a:ext cx="50547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sposal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100320" y="1600200"/>
            <a:ext cx="2946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gg Disposal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2957400" y="1600200"/>
            <a:ext cx="3305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urse of Diseas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096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 weeks - depends on strain of vir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28940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ethod of Spread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with infected bi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fowl are the original reservo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nic slaughter house and distribution also very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ve bird markets are a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752480" y="17524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orbidit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86000" y="1143000"/>
            <a:ext cx="455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ortalit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25040" y="1599840"/>
            <a:ext cx="7696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doesn't exceed 10% unless fowl plague (high path) vir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can reach 80-100% mort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384800" y="7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nical Sign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25040" y="1219320"/>
            <a:ext cx="7696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pecif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feed consu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egg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d to severe 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us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ema of head and wat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a3c14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ns the shell of broiler breeder eggs.  Shell color isn't being laid down in the oviduct.  Destroy infected eg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inusiti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90880" y="1600200"/>
            <a:ext cx="4964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5:00:49Z</dcterms:created>
  <dc:creator>Stanley H. Kleven</dc:creator>
  <dc:description/>
  <dc:language>en-US</dc:language>
  <cp:lastModifiedBy>fawaz</cp:lastModifiedBy>
  <dcterms:modified xsi:type="dcterms:W3CDTF">2008-11-15T23:57:41Z</dcterms:modified>
  <cp:revision>4</cp:revision>
  <dc:subject/>
  <dc:title>AVIAN INFLUENZA  </dc:title>
</cp:coreProperties>
</file>