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BBF-1CB9-41CB-9A87-CCF0FFDF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ACB-5FB5-42B2-8891-E74990E8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BDC-743F-471F-B7FD-FBCBDE55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0E7-7235-4CA7-82D2-2DCA4230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E32-FC25-45F5-8B45-35E01F6B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505-F2E0-4C09-9498-05BDF1B9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80F-399D-41FF-8C0B-42B1D547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AC3-1227-4E3F-A39B-80C79840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FD9-D873-4A00-B208-43DA9341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A0B-6CF3-4C1F-B71D-3A20DE32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28F-C3A5-4FDE-B41E-F443369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190-BD9F-402F-82B8-E0B1CB32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433D-3496-4A96-A1CB-9781A08DD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219320"/>
            <a:ext cx="579132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914400"/>
            <a:ext cx="2666880" cy="1312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000000"/>
                </a:solidFill>
                <a:latin typeface="Arial"/>
              </a:rPr>
              <a:t>برنامج الرس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22096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133720" y="1219320"/>
            <a:ext cx="5333760" cy="34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فتح الصوره في برنامج الرسام (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int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ضغط على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dit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ثم اختر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ect All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ثم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ضغط على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dit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ثم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p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4267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28600"/>
            <a:ext cx="8305560" cy="32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ضغط على زر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c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الموجود في اعلى اقصى يسار لوحة المفاتيح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ثم اختر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le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ثم اختر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w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ستظهر لك نافذه اختر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أن ستجد مربع ابيض ضع مؤشر الفأره على الزاويه السفلى من جهة اليمين كما هو مبين بالشكل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52560" y="3021120"/>
            <a:ext cx="36388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ثم قم بتصغيره حسب الشكل الذي ترغب به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3880" y="99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81080" y="380880"/>
            <a:ext cx="6210360" cy="21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ختر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dit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ثم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s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حاول تحريك الصوره قليلا عندما يكون المؤشر مثل علامة + كما هو مبين بالشك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وبعدها قم بتصغير الصوره كما فعلت مع تصغير الاطار حتى تصل الى الحجم الطلو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19440" y="2720880"/>
            <a:ext cx="370512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ستلاحظ ان الاطار اصبح اكبر من حجم الصور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ان قم بضبط الاطار واجعله مساويا لحجم الصور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52680" y="23623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76520"/>
            <a:ext cx="8943840" cy="21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ان اصبح حجم الصوره مقبول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م بحفظ الصوره الجديده بأمتداد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p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وبعدها قم برفعها على احد مواقع رفع الصور في الانترنت وبعدها انسخ الكود وضعه في المنتدى لترى الصوره في المكان الذي ترغب في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1:34:38Z</dcterms:created>
  <dc:creator>romanic2020@yahoo.com</dc:creator>
  <dc:description/>
  <dc:language>en-US</dc:language>
  <cp:lastModifiedBy>main</cp:lastModifiedBy>
  <dcterms:modified xsi:type="dcterms:W3CDTF">2010-03-31T08:33:33Z</dcterms:modified>
  <cp:revision>6</cp:revision>
  <dc:subject/>
  <dc:title>الشريحة 1</dc:title>
</cp:coreProperties>
</file>