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591-FB27-4077-BAA4-2A70C998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636-07A0-4549-AE09-87A959BA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455-DD1E-4C5B-A444-27945934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6F9-1209-4211-897A-74BC8A4E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0CC-9D2F-46C7-82EB-6E718F2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432-FD3B-4E71-827D-8D1C921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F12-318E-47C2-9BF0-873F82E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651-7FE1-449B-8B28-8363D44F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B5F-7305-4C54-86A0-44664C8B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247-F936-4774-BCB1-DD408B8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28F-61CE-41B1-AEDF-CB619B4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FE5-B3C2-4AC1-8BB7-B279DEB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3F7-38AA-41A6-9875-C63814ACB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579132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914400"/>
            <a:ext cx="2666880" cy="131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Arial"/>
              </a:rPr>
              <a:t>برنامج الرس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2209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133720" y="1219320"/>
            <a:ext cx="5333760" cy="34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فتح الصوره في برنامج الرسام (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in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 All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p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830556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ز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c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الموجود في اعلى اقصى يسار لوحة المفاتيح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e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w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تظهر لك نافذه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أن ستجد مربع ابيض ضع مؤشر الفأره على الزاويه السفلى من جهة اليمين كما هو مبين بالشكل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52560" y="3021120"/>
            <a:ext cx="36388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ثم قم بتصغيره حسب الشكل الذي ترغب به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38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81080" y="380880"/>
            <a:ext cx="621036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ختر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حاول تحريك الصوره قليلا عندما يكون المؤشر مثل علامة + كما هو مبين بالشك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بعدها قم بتصغير الصوره كما فعلت مع تصغير الاطار حتى تصل الى الحجم الطلو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19440" y="2720880"/>
            <a:ext cx="37051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تلاحظ ان الاطار اصبح اكبر من حجم الصور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ان قم بضبط الاطار واجعله مساويا لحجم الصور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2680" y="23623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76520"/>
            <a:ext cx="8943840" cy="21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ان اصبح حجم الصوره مقبو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م بحفظ الصوره الجديده بأمتداد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p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بعدها قم برفعها على احد مواقع رفع الصور في الانترنت وبعدها انسخ الكود وضعه في المنتدى لترى الصوره في المكان الذي ترغب في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1:34:38Z</dcterms:created>
  <dc:creator>romanic2020@yahoo.com</dc:creator>
  <dc:description/>
  <dc:language>en-US</dc:language>
  <cp:lastModifiedBy>main</cp:lastModifiedBy>
  <dcterms:modified xsi:type="dcterms:W3CDTF">2010-03-31T08:33:33Z</dcterms:modified>
  <cp:revision>6</cp:revision>
  <dc:subject/>
  <dc:title>الشريحة 1</dc:title>
</cp:coreProperties>
</file>