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4DA-3B02-41C5-AEF4-6767320A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551-88B7-49E2-A44D-46FD8EB3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E85-DD98-40A1-95C3-4E1886B0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1B4-F8FD-4798-9E69-9A7C9DB2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964C-8240-450F-9880-FF764818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DE4F-F04B-4B5B-A093-4AEA65A7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38DB-37AB-4B78-9C29-E2C5571F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34A5-2F71-4561-A45C-50489914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4582-0A8C-4177-BC81-812A97BB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DD97-9EAD-4A10-BDF2-51E50A7A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F81C-A897-4B60-B724-F0AB7B12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7B1-2A25-4184-9D5D-C39E44C2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A323-3089-4B15-A051-9EE4229B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476C-23A8-4883-BA5A-F76A8582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10CC-7E0D-47D8-9270-166323D3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CE7C-AF7A-40CE-9365-6755A2DD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891C-8116-444A-9894-CC8A0CE1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C54-FDAD-4816-AB8C-B78F2511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198-72DE-4A17-AE46-1B9DF0F6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D27-577D-4B12-86DD-BF3189E6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DF9-0B19-4E88-AA80-0EF9528B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A11-B104-42AF-AC2B-CFFD2EF5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E89-657B-449D-BEC3-976E1EBF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027A-4FB6-410F-9FBB-E98DFCBC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CFC3-B8E3-4E74-BC80-65C6CEA0F6D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26BB-7060-4E3C-84AF-0B8A355A36B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6880" y="2282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Arial"/>
              </a:rPr>
              <a:t>إنشاء مجلد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71000" y="1295280"/>
            <a:ext cx="104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Times New Roman"/>
              </a:rPr>
              <a:t>لانشاء مجلد على سطح المكتب اتبع الخطوات آلاتية :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776160" y="2176560"/>
            <a:ext cx="115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انقر زر الفارة الأيمن في مكان فارغ على سطح المكتب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23120" y="37638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أشر على الخيار جديد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37600" y="4572000"/>
            <a:ext cx="47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انقر على الأمر مجلد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11400" y="5454720"/>
            <a:ext cx="46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اختر اسما للمجلد 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52280" y="2895480"/>
            <a:ext cx="9060120" cy="3505320"/>
            <a:chOff x="152280" y="2895480"/>
            <a:chExt cx="9060120" cy="35053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152280" y="2895480"/>
              <a:ext cx="48769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391280" y="2925720"/>
              <a:ext cx="482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buClr>
                  <a:srgbClr val="0000ff"/>
                </a:buClr>
                <a:buSzPct val="12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0000"/>
                  </a:solidFill>
                  <a:latin typeface="Times New Roman"/>
                </a:rPr>
                <a:t>ستظهر قائمة فرعية .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Arial"/>
              </a:rPr>
              <a:t>النقل باستخدام الفأرة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55600" y="1828800"/>
            <a:ext cx="69976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 حدد الملف أو المجلد الذي تريد نقله 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36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 إذا أردت نقله علي القرص نفسه قم بسحب الملف أو المجلد . أما اذا اردت نقله الى قرص آخر فقم بضغط مفتاح العالي </a:t>
            </a:r>
            <a:r>
              <a:rPr b="1" lang="de-AT" sz="3600" spc="-1" strike="noStrike">
                <a:solidFill>
                  <a:srgbClr val="eaeaea"/>
                </a:solidFill>
                <a:latin typeface="Times New Roman"/>
              </a:rPr>
              <a:t>Shift</a:t>
            </a:r>
            <a:r>
              <a:rPr b="1" lang="de-AT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 أثناء السحب 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36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3600" spc="-1" strike="noStrike">
                <a:solidFill>
                  <a:srgbClr val="0000ff"/>
                </a:solidFill>
                <a:latin typeface="Times New Roman"/>
              </a:rPr>
              <a:t> حرر زر الفأرة 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3300"/>
                </a:solidFill>
                <a:latin typeface="Arial"/>
              </a:rPr>
              <a:t>النقل باستخدام الأوامر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3200400"/>
            <a:ext cx="44193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من القائمة انقر على الأمر </a:t>
            </a:r>
            <a:r>
              <a:rPr b="1" lang="hi-IN" sz="3200" spc="-1" strike="noStrike">
                <a:solidFill>
                  <a:srgbClr val="eaeaea"/>
                </a:solidFill>
                <a:latin typeface="Times New Roman"/>
              </a:rPr>
              <a:t>قص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حدد الموقع المطلوب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انقر بزر الفارة الأيمن فوق مكان فارغ  واختر من القائمة الأمر </a:t>
            </a:r>
            <a:r>
              <a:rPr b="1" lang="hi-IN" sz="3200" spc="-1" strike="noStrike">
                <a:solidFill>
                  <a:srgbClr val="eaeaea"/>
                </a:solidFill>
                <a:latin typeface="Times New Roman"/>
              </a:rPr>
              <a:t>لصق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447920"/>
            <a:ext cx="437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انقر زر الفارة الأيمن فوق الملف أو المجلد الذي تريد نقله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752480"/>
            <a:ext cx="9052200" cy="4162680"/>
            <a:chOff x="304920" y="1752480"/>
            <a:chExt cx="9052200" cy="4162680"/>
          </a:xfrm>
        </p:grpSpPr>
        <p:sp>
          <p:nvSpPr>
            <p:cNvPr id="161" name=""/>
            <p:cNvSpPr/>
            <p:nvPr/>
          </p:nvSpPr>
          <p:spPr>
            <a:xfrm>
              <a:off x="4252680" y="2590920"/>
              <a:ext cx="51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buClr>
                  <a:srgbClr val="0000ff"/>
                </a:buClr>
                <a:buSzPct val="12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cc3300"/>
                  </a:solidFill>
                  <a:latin typeface="Times New Roman"/>
                </a:rPr>
                <a:t>سوف تظهر قائمة مختصرة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304920" y="1752480"/>
            <a:ext cx="4190760" cy="416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752480"/>
                      <a:ext cx="4190760" cy="416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3300"/>
                </a:solidFill>
                <a:latin typeface="Arial"/>
              </a:rPr>
              <a:t>إعادة تسمية الملفات والمجلدات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03880" y="4419720"/>
            <a:ext cx="45115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اكتب الاسم الجديد للملف أو المجلد 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-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اضغط مفتاح </a:t>
            </a:r>
            <a:r>
              <a:rPr b="1" lang="hi-IN" sz="36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الادخال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52280" y="1600200"/>
            <a:ext cx="8702640" cy="4419720"/>
            <a:chOff x="152280" y="1600200"/>
            <a:chExt cx="8702640" cy="4419720"/>
          </a:xfrm>
        </p:grpSpPr>
        <p:graphicFrame>
          <p:nvGraphicFramePr>
            <p:cNvPr id="167" name=""/>
            <p:cNvGraphicFramePr/>
            <p:nvPr/>
          </p:nvGraphicFramePr>
          <p:xfrm>
            <a:off x="152280" y="1847880"/>
            <a:ext cx="4191120" cy="417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847880"/>
                      <a:ext cx="4191120" cy="417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4648320" y="1600200"/>
              <a:ext cx="420660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Arabic Transparent"/>
                </a:rPr>
                <a:t>1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Arabic Transparent"/>
                </a:rPr>
                <a:t>-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Arabic Transparent"/>
                </a:rPr>
                <a:t> انقر بزر الفارة الأيمن فوق الملف أو المجلد سوف تظهر قائمة مختصره اختر منها الأمر </a:t>
              </a:r>
              <a:r>
                <a:rPr b="1" lang="hi-IN" sz="3600" spc="-1" strike="noStrike">
                  <a:solidFill>
                    <a:srgbClr val="eaeaea"/>
                  </a:solidFill>
                  <a:latin typeface="Times New Roman"/>
                  <a:cs typeface="Arabic Transparent"/>
                </a:rPr>
                <a:t>إعادة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Arabic Transparent"/>
                </a:rPr>
                <a:t> </a:t>
              </a:r>
              <a:r>
                <a:rPr b="1" lang="hi-IN" sz="3600" spc="-1" strike="noStrike">
                  <a:solidFill>
                    <a:srgbClr val="eaeaea"/>
                  </a:solidFill>
                  <a:latin typeface="Times New Roman"/>
                  <a:cs typeface="Arabic Transparent"/>
                </a:rPr>
                <a:t>تسميه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Arabic Transparent"/>
                </a:rPr>
                <a:t> .</a:t>
              </a:r>
              <a:endParaRPr b="0" lang="en-US" sz="36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500"/>
                            </p:stCondLst>
                            <p:childTnLst>
                              <p:par>
                                <p:cTn id="3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3300"/>
                </a:solidFill>
                <a:latin typeface="Arial"/>
              </a:rPr>
              <a:t>البحث عن الملفات والمجلدات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57150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لبدء عملية البحث انقر زر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البح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الان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129384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انقر زر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ابدأ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ثم وجه المؤشر الى أمر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ح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, ثم اختر الأمر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ملفات أو مجلدات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6320" y="1752480"/>
            <a:ext cx="9289080" cy="4572000"/>
            <a:chOff x="76320" y="1752480"/>
            <a:chExt cx="9289080" cy="457200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76320" y="1752480"/>
              <a:ext cx="487656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317480" y="2743200"/>
              <a:ext cx="50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buClr>
                  <a:srgbClr val="0000ff"/>
                </a:buClr>
                <a:buSzPct val="12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  <a:ea typeface="Arabic Transparent"/>
                </a:rPr>
                <a:t> سيظهر مربع حوار البحث 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724280" y="4616280"/>
            <a:ext cx="428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في خانة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</a:rPr>
              <a:t>بح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</a:rPr>
              <a:t>في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حدد محرك الأقراص أو المجلد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41960" y="3274920"/>
            <a:ext cx="374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abic Transparent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في مربع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الاسم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abic Transparent"/>
              </a:rPr>
              <a:t> اكتب اسم الملف الذي تريد العثور عليه 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500"/>
                            </p:stCondLst>
                            <p:childTnLst>
                              <p:par>
                                <p:cTn id="37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Arial"/>
              </a:rPr>
              <a:t>إنشاء ملف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320" y="1371600"/>
            <a:ext cx="8915400" cy="6883200"/>
            <a:chOff x="76320" y="1371600"/>
            <a:chExt cx="8915400" cy="6883200"/>
          </a:xfrm>
        </p:grpSpPr>
        <p:sp>
          <p:nvSpPr>
            <p:cNvPr id="124" name=""/>
            <p:cNvSpPr/>
            <p:nvPr/>
          </p:nvSpPr>
          <p:spPr>
            <a:xfrm>
              <a:off x="5562720" y="1371600"/>
              <a:ext cx="3429000" cy="68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انقر نقرا مزدوجا فوق رمز جهاز الكمبيوتر الموجود على سطح المكتب ستظهر نافذة </a:t>
              </a:r>
              <a:r>
                <a:rPr b="1" lang="hi-IN" sz="2400" spc="-1" strike="noStrike">
                  <a:solidFill>
                    <a:srgbClr val="0000ff"/>
                  </a:solidFill>
                  <a:latin typeface="Times New Roman"/>
                </a:rPr>
                <a:t>جهاز الكمبيوتر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hi-IN" sz="2400" spc="-1" strike="noStrike">
                  <a:solidFill>
                    <a:srgbClr val="0000ff"/>
                  </a:solidFill>
                  <a:latin typeface="Times New Roman"/>
                </a:rPr>
                <a:t>حدد المحرك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الذي ستضع فيه الملف الجديد بالنقر المزدوج على رمزه 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من قائمة </a:t>
              </a:r>
              <a:r>
                <a:rPr b="1" lang="hi-IN" sz="2400" spc="-1" strike="noStrike">
                  <a:solidFill>
                    <a:srgbClr val="0000ff"/>
                  </a:solidFill>
                  <a:latin typeface="Times New Roman"/>
                </a:rPr>
                <a:t>ملف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اختر الأمر </a:t>
              </a:r>
              <a:r>
                <a:rPr b="1" lang="hi-IN" sz="2400" spc="-1" strike="noStrike">
                  <a:solidFill>
                    <a:srgbClr val="0000ff"/>
                  </a:solidFill>
                  <a:latin typeface="Times New Roman"/>
                </a:rPr>
                <a:t>جديد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ومن ثم اختر نوع الملف الذي تريد إنشاءه 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اكتب اسما جديدا للملف ثم اضغط مفتاح </a:t>
              </a:r>
              <a:r>
                <a:rPr b="1" lang="hi-IN" sz="2400" spc="-1" strike="noStrike">
                  <a:solidFill>
                    <a:srgbClr val="0000ff"/>
                  </a:solidFill>
                  <a:latin typeface="Times New Roman"/>
                </a:rPr>
                <a:t>الادخال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 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76320" y="1905120"/>
              <a:ext cx="5486400" cy="394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Arial"/>
              </a:rPr>
              <a:t>فتح ملف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2514600"/>
            <a:ext cx="350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Times New Roman"/>
              </a:rPr>
              <a:t>انقر نقرا مزدوجا فوق الملف الذي تريد فتحه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4800" y="1415880"/>
            <a:ext cx="92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Times New Roman"/>
              </a:rPr>
              <a:t>لفتح ملف اتبع إحدى الطريقتين الآتيتين :-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2280" y="2438280"/>
            <a:ext cx="8778960" cy="4710960"/>
            <a:chOff x="152280" y="2438280"/>
            <a:chExt cx="8778960" cy="471096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152280" y="2438280"/>
              <a:ext cx="51055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257800" y="4130640"/>
              <a:ext cx="36734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buClr>
                  <a:srgbClr val="ff0000"/>
                </a:buClr>
                <a:buSzPct val="12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aeaea"/>
                  </a:solidFill>
                  <a:latin typeface="Times New Roman"/>
                </a:rPr>
                <a:t> انقر بزر الفارة الأيمن فوق الملف المراد فتحه ستظهر قائمة فرعيه اختر منها الأمر </a:t>
              </a:r>
              <a:r>
                <a:rPr b="1" lang="hi-IN" sz="3200" spc="-1" strike="noStrike">
                  <a:solidFill>
                    <a:srgbClr val="0000ff"/>
                  </a:solidFill>
                  <a:latin typeface="Times New Roman"/>
                </a:rPr>
                <a:t>فتح</a:t>
              </a:r>
              <a:r>
                <a:rPr b="1" lang="en-US" sz="3200" spc="-1" strike="noStrike">
                  <a:solidFill>
                    <a:srgbClr val="eaeaea"/>
                  </a:solidFill>
                  <a:latin typeface="Times New Roman"/>
                </a:rPr>
                <a:t> .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3808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3300"/>
                </a:solidFill>
                <a:latin typeface="Arial"/>
              </a:rPr>
              <a:t>حذف ملف أو مجلد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2027160"/>
            <a:ext cx="36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قم بسحب رموز الملفات أو المجلدات إلى </a:t>
            </a:r>
            <a:r>
              <a:rPr b="1" lang="hi-IN" sz="3200" spc="-1" strike="noStrike">
                <a:solidFill>
                  <a:srgbClr val="0000ff"/>
                </a:solidFill>
                <a:latin typeface="Times New Roman"/>
              </a:rPr>
              <a:t>سلة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Times New Roman"/>
              </a:rPr>
              <a:t>المحذوفات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440" y="1219320"/>
            <a:ext cx="99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Times New Roman"/>
              </a:rPr>
              <a:t>لحذف ملف أو مجلد اتبع إحدى الطريقتين التاليتين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2280" y="2209680"/>
            <a:ext cx="8839440" cy="5595480"/>
            <a:chOff x="152280" y="2209680"/>
            <a:chExt cx="8839440" cy="55954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52280" y="2209680"/>
              <a:ext cx="518184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410080" y="3811680"/>
              <a:ext cx="358164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buClr>
                  <a:srgbClr val="ff0000"/>
                </a:buClr>
                <a:buSzPct val="12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eaeaea"/>
                  </a:solidFill>
                  <a:latin typeface="Times New Roman"/>
                </a:rPr>
                <a:t> قم بتحديد الملف أو المجلد وذلك بالنقر عليه مرة واحده بالزر الأيسر ثم أضغط مفتاح </a:t>
              </a:r>
              <a:r>
                <a:rPr b="1" lang="ar-SA" sz="3200" spc="-1" strike="noStrike">
                  <a:solidFill>
                    <a:srgbClr val="0000ff"/>
                  </a:solidFill>
                  <a:latin typeface="Times New Roman"/>
                </a:rPr>
                <a:t>الحذف</a:t>
              </a:r>
              <a:r>
                <a:rPr b="1" lang="ar-SA" sz="32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de-AT" sz="3200" spc="-1" strike="noStrike">
                  <a:solidFill>
                    <a:srgbClr val="0000ff"/>
                  </a:solidFill>
                  <a:latin typeface="Times New Roman"/>
                </a:rPr>
                <a:t>Delete</a:t>
              </a:r>
              <a:r>
                <a:rPr b="1" lang="ar-SA" sz="3200" spc="-1" strike="noStrike">
                  <a:solidFill>
                    <a:srgbClr val="eaeaea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4267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3300"/>
                </a:solidFill>
                <a:latin typeface="Arial"/>
              </a:rPr>
              <a:t>نقل ونسخ الملفات والمجلدات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438280"/>
            <a:ext cx="8001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إذا كنت تريد سحب ملف أو مجلد الى موقع على القرص نفسه , فسيفترض ويندوز أنك تريد نقله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اذا كنت تريد سحب ملف أو مجلد الى قرص آخر , فسيفترض ويندوز أنك تريد نسخه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35560" y="4572000"/>
            <a:ext cx="448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eaeaea"/>
                </a:solidFill>
                <a:latin typeface="Times New Roman"/>
              </a:rPr>
              <a:t>في هذا الدرس سوف نتعلم :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hi-IN" sz="2400" spc="-1" strike="noStrike" u="sng">
                <a:solidFill>
                  <a:srgbClr val="eec85e"/>
                </a:solidFill>
                <a:uFillTx/>
                <a:latin typeface="Times New Roman"/>
                <a:hlinkClick r:id="rId1" action="ppaction://hlinksldjump"/>
              </a:rPr>
              <a:t>كيفية نسخ الملفات والمجلدات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hi-IN" sz="2400" spc="-1" strike="noStrike" u="sng">
                <a:solidFill>
                  <a:srgbClr val="eec85e"/>
                </a:solidFill>
                <a:uFillTx/>
                <a:latin typeface="Times New Roman"/>
                <a:hlinkClick r:id="rId2" action="ppaction://hlinksldjump"/>
              </a:rPr>
              <a:t>كيفية نقل الملفات والمجلدات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4158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أسهل طريقة لنقل ونسخ الملفات والمجلدات هي سحبها من مجلد الى آخر وإليك بعض اللمحات البسيطة التي ينبغي معرفتها :-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76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3300"/>
                </a:solidFill>
                <a:latin typeface="Arial"/>
              </a:rPr>
              <a:t>نسخ الملفات والمجلدات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4160" y="2317680"/>
            <a:ext cx="8661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نسخ ملف أو مجلد يعني إنشاء نسخة مطابقة عن محتويات الملف أو المجلد  ووضعه على القرص الذي تحدده 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Arial"/>
              </a:rPr>
              <a:t>النسخ باستخدام الفأرة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704960"/>
            <a:ext cx="7162920" cy="66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حدد الملف أو المجلد الذي تريد نسخه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لنسخ الملف أو المجلد إلى قرص آخر , قم بسحبه الى مجلد الوجهة . ولنسخه على القرص نفسه , قم بضغط مفتاح 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تحكم </a:t>
            </a:r>
            <a:r>
              <a:rPr b="1" lang="de-AT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trl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أثناء سحب الملف أو المجلد إلى الموقع الجديد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حرر زر الفارة ومفتاح التحكم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trl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3300"/>
                </a:solidFill>
                <a:latin typeface="Arial"/>
              </a:rPr>
              <a:t>النسخ باستخدام الأوامر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2971800"/>
            <a:ext cx="51051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 من القائمة اختر الأمر 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</a:rPr>
              <a:t>نسخ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 حدد محرك أو مجلد الوجهة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(الموقع الجديد)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 انقر بزر الفارة الأيمن فوق مكان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 فارغ  واختر من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القائمة الأمر 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</a:rPr>
              <a:t>لصق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13160" y="1295280"/>
            <a:ext cx="4678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انقر زر الفارة الأيمن فوق الملف أو المجلد الذي تريد نسخه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52280" y="1523880"/>
            <a:ext cx="9204840" cy="4105440"/>
            <a:chOff x="152280" y="1523880"/>
            <a:chExt cx="9204840" cy="4105440"/>
          </a:xfrm>
        </p:grpSpPr>
        <p:graphicFrame>
          <p:nvGraphicFramePr>
            <p:cNvPr id="150" name=""/>
            <p:cNvGraphicFramePr/>
            <p:nvPr/>
          </p:nvGraphicFramePr>
          <p:xfrm>
            <a:off x="152280" y="1523880"/>
            <a:ext cx="3886200" cy="410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523880"/>
                      <a:ext cx="3886200" cy="410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>
              <a:off x="4252680" y="2376360"/>
              <a:ext cx="51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buClr>
                  <a:srgbClr val="0000ff"/>
                </a:buClr>
                <a:buSzPct val="12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cc3300"/>
                  </a:solidFill>
                  <a:latin typeface="Times New Roman"/>
                </a:rPr>
                <a:t>سوف تظهر قائمة مختصرة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920"/>
            <a:ext cx="525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Arial"/>
              </a:rPr>
              <a:t>نقل الملفات والمجلدات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2133720"/>
            <a:ext cx="716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   نقل ملف أو مجلد يعني إزالته من القرص أو المجلد الذي تم تخزينه فيه في بادئ الأمر ثم وضعه على القرص أو المجلد الجديد الذي تحدده 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45-03-18T15:59:04Z</dcterms:created>
  <dc:creator>thamer</dc:creator>
  <dc:description/>
  <dc:language>en-US</dc:language>
  <cp:lastModifiedBy>thamer</cp:lastModifiedBy>
  <dcterms:modified xsi:type="dcterms:W3CDTF">2045-03-18T16:28:50Z</dcterms:modified>
  <cp:revision>3</cp:revision>
  <dc:subject/>
  <dc:title>الشريحة 1</dc:title>
</cp:coreProperties>
</file>