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121-CE51-4A71-B122-C7D98841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DFB-BD3D-42C8-9DF4-B574484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ABC-BFF0-438D-BE3D-86202437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2F0-3B7C-4767-BFB6-25AFEB38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1CB7-7D66-4AF5-BD41-45CE36AF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D83D-D8A3-41CF-B582-3B12E8AF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8049-E654-4AE6-B882-6149547C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B483-71FD-46E7-9861-657D132B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A61F-A623-4AF6-B3EE-DC2AD8D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25C9-F50F-4EEC-9F23-61156E77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38A2-BAD8-4E08-B65F-3EBAC4EE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096-C885-44D3-9169-8661C376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BAFC-0E6A-4218-98C5-2B9596AE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2F16-B149-42FC-9ECA-AB4D68E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E186-F0F0-41B2-863D-3584A726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4351-8334-42B2-BC3E-59D153CD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283D-1C37-476B-98CC-56F88E6C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F62-AEF3-44AA-B835-90D22D0C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5D1-701D-4922-8AFB-E233C592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AD0-41CD-48EE-A1D7-1F1DB683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0BB-BB1E-4DDF-A941-B7B1ECEB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B8D-06D8-4B1A-AF28-188F16E4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B6F-05DE-4FDF-B4D3-B5DCF2B5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CDA-0113-4B26-99D8-8CE6F2A0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83E5-4206-4B02-BC21-B2935FEE5DC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861E-0AA6-4E2A-AB0A-57E81BE9C67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880" y="2282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إنشاء مجلد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71000" y="129528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Times New Roman"/>
              </a:rPr>
              <a:t>لانشاء مجلد على سطح المكتب اتبع الخطوات آلاتية :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76160" y="2176560"/>
            <a:ext cx="115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زر الفارة الأيمن في مكان فارغ على سطح المكتب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3120" y="37638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أشر على الخيار جديد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37600" y="4572000"/>
            <a:ext cx="47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على الأمر مجلد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11400" y="545472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اختر اسما للمجلد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52280" y="2895480"/>
            <a:ext cx="9060120" cy="3505320"/>
            <a:chOff x="152280" y="2895480"/>
            <a:chExt cx="9060120" cy="35053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48769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391280" y="2925720"/>
              <a:ext cx="48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buClr>
                  <a:srgbClr val="0000ff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0000"/>
                  </a:solidFill>
                  <a:latin typeface="Times New Roman"/>
                </a:rPr>
                <a:t>ستظهر قائمة فرعية .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النقل باستخدام الفأرة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5600" y="1828800"/>
            <a:ext cx="69976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حدد الملف أو المجلد الذي تريد نقله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إذا أردت نقله علي القرص نفسه قم بسحب الملف أو المجلد . أما اذا اردت نقله الى قرص آخر فقم بضغط مفتاح العالي </a:t>
            </a:r>
            <a:r>
              <a:rPr b="1" lang="de-AT" sz="3600" spc="-1" strike="noStrike">
                <a:solidFill>
                  <a:srgbClr val="eaeaea"/>
                </a:solidFill>
                <a:latin typeface="Times New Roman"/>
              </a:rPr>
              <a:t>Shift</a:t>
            </a: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أثناء السحب 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حرر زر الفأرة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النقل باستخدام الأوامر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200400"/>
            <a:ext cx="44193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من القائمة انقر على الأمر </a:t>
            </a:r>
            <a:r>
              <a:rPr b="1" lang="hi-IN" sz="3200" spc="-1" strike="noStrike">
                <a:solidFill>
                  <a:srgbClr val="eaeaea"/>
                </a:solidFill>
                <a:latin typeface="Times New Roman"/>
              </a:rPr>
              <a:t>قص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حدد الموقع المطلوب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بزر الفارة الأيمن فوق مكان فارغ  واختر من القائمة الأمر </a:t>
            </a:r>
            <a:r>
              <a:rPr b="1" lang="hi-IN" sz="3200" spc="-1" strike="noStrike">
                <a:solidFill>
                  <a:srgbClr val="eaeaea"/>
                </a:solidFill>
                <a:latin typeface="Times New Roman"/>
              </a:rPr>
              <a:t>لصق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447920"/>
            <a:ext cx="437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زر الفارة الأيمن فوق الملف أو المجلد الذي تريد نقله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752480"/>
            <a:ext cx="9052200" cy="4162680"/>
            <a:chOff x="304920" y="1752480"/>
            <a:chExt cx="9052200" cy="4162680"/>
          </a:xfrm>
        </p:grpSpPr>
        <p:sp>
          <p:nvSpPr>
            <p:cNvPr id="161" name=""/>
            <p:cNvSpPr/>
            <p:nvPr/>
          </p:nvSpPr>
          <p:spPr>
            <a:xfrm>
              <a:off x="4252680" y="2590920"/>
              <a:ext cx="51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buClr>
                  <a:srgbClr val="0000ff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cc3300"/>
                  </a:solidFill>
                  <a:latin typeface="Times New Roman"/>
                </a:rPr>
                <a:t>سوف تظهر قائمة مختصرة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304920" y="1752480"/>
            <a:ext cx="4190760" cy="416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752480"/>
                      <a:ext cx="4190760" cy="416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إعادة تسمية الملفات والمجلد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03880" y="4419720"/>
            <a:ext cx="45115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اكتب الاسم الجديد للملف أو المجلد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اضغط مفتاح </a:t>
            </a:r>
            <a:r>
              <a:rPr b="1" lang="hi-IN" sz="36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لادخا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2280" y="1600200"/>
            <a:ext cx="8702640" cy="4419720"/>
            <a:chOff x="152280" y="1600200"/>
            <a:chExt cx="8702640" cy="4419720"/>
          </a:xfrm>
        </p:grpSpPr>
        <p:graphicFrame>
          <p:nvGraphicFramePr>
            <p:cNvPr id="167" name=""/>
            <p:cNvGraphicFramePr/>
            <p:nvPr/>
          </p:nvGraphicFramePr>
          <p:xfrm>
            <a:off x="152280" y="1847880"/>
            <a:ext cx="4191120" cy="417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847880"/>
                      <a:ext cx="4191120" cy="417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4648320" y="1600200"/>
              <a:ext cx="42066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Arabic Transparent"/>
                </a:rPr>
                <a:t>1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Arabic Transparent"/>
                </a:rPr>
                <a:t>-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Arabic Transparent"/>
                </a:rPr>
                <a:t> انقر بزر الفارة الأيمن فوق الملف أو المجلد سوف تظهر قائمة مختصره اختر منها الأمر </a:t>
              </a:r>
              <a:r>
                <a:rPr b="1" lang="hi-IN" sz="3600" spc="-1" strike="noStrike">
                  <a:solidFill>
                    <a:srgbClr val="eaeaea"/>
                  </a:solidFill>
                  <a:latin typeface="Times New Roman"/>
                  <a:cs typeface="Arabic Transparent"/>
                </a:rPr>
                <a:t>إعادة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Arabic Transparent"/>
                </a:rPr>
                <a:t> </a:t>
              </a:r>
              <a:r>
                <a:rPr b="1" lang="hi-IN" sz="3600" spc="-1" strike="noStrike">
                  <a:solidFill>
                    <a:srgbClr val="eaeaea"/>
                  </a:solidFill>
                  <a:latin typeface="Times New Roman"/>
                  <a:cs typeface="Arabic Transparent"/>
                </a:rPr>
                <a:t>تسميه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Arabic Transparent"/>
                </a:rPr>
                <a:t> .</a:t>
              </a:r>
              <a:endParaRPr b="0" lang="en-US" sz="3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البحث عن الملفات والمجلدات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57150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لبدء عملية البحث انقر زر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لبح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لان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129384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انقر زر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بدأ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ثم وجه المؤشر الى أمر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ح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, ثم اختر الأمر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ملفات أو مجلدات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6320" y="1752480"/>
            <a:ext cx="9289080" cy="4572000"/>
            <a:chOff x="76320" y="1752480"/>
            <a:chExt cx="9289080" cy="45720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76320" y="1752480"/>
              <a:ext cx="48765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317480" y="2743200"/>
              <a:ext cx="50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buClr>
                  <a:srgbClr val="0000ff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  <a:ea typeface="Arabic Transparent"/>
                </a:rPr>
                <a:t> سيظهر مربع حوار البحث 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724280" y="4616280"/>
            <a:ext cx="428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في خانة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</a:rPr>
              <a:t>بح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</a:rPr>
              <a:t>في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حدد محرك الأقراص أو المجلد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41960" y="3274920"/>
            <a:ext cx="374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في مربع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لاسم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اكتب اسم الملف الذي تريد العثور عليه 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7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إنشاء ملف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320" y="1371600"/>
            <a:ext cx="8915400" cy="6883200"/>
            <a:chOff x="76320" y="1371600"/>
            <a:chExt cx="8915400" cy="6883200"/>
          </a:xfrm>
        </p:grpSpPr>
        <p:sp>
          <p:nvSpPr>
            <p:cNvPr id="124" name=""/>
            <p:cNvSpPr/>
            <p:nvPr/>
          </p:nvSpPr>
          <p:spPr>
            <a:xfrm>
              <a:off x="5562720" y="1371600"/>
              <a:ext cx="3429000" cy="68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انقر نقرا مزدوجا فوق رمز جهاز الكمبيوتر الموجود على سطح المكتب ستظهر نافذة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جهاز الكمبيوتر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حدد المحرك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الذي ستضع فيه الملف الجديد بالنقر المزدوج على رمزه 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من قائمة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ملف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اختر الأمر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جديد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ومن ثم اختر نوع الملف الذي تريد إنشاءه 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اكتب اسما جديدا للملف ثم اضغط مفتاح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الادخال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76320" y="1905120"/>
              <a:ext cx="5486400" cy="39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فتح ملف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251460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Times New Roman"/>
              </a:rPr>
              <a:t>انقر نقرا مزدوجا فوق الملف الذي تريد فتحه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4800" y="1415880"/>
            <a:ext cx="92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Times New Roman"/>
              </a:rPr>
              <a:t>لفتح ملف اتبع إحدى الطريقتين الآتيتين :-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280" y="2438280"/>
            <a:ext cx="8778960" cy="4710960"/>
            <a:chOff x="152280" y="2438280"/>
            <a:chExt cx="8778960" cy="47109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152280" y="2438280"/>
              <a:ext cx="51055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257800" y="4130640"/>
              <a:ext cx="3673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buClr>
                  <a:srgbClr val="ff0000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 انقر بزر الفارة الأيمن فوق الملف المراد فتحه ستظهر قائمة فرعيه اختر منها الأمر </a:t>
              </a:r>
              <a:r>
                <a:rPr b="1" lang="hi-IN" sz="3200" spc="-1" strike="noStrike">
                  <a:solidFill>
                    <a:srgbClr val="0000ff"/>
                  </a:solidFill>
                  <a:latin typeface="Times New Roman"/>
                </a:rPr>
                <a:t>فتح</a:t>
              </a: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 .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3300"/>
                </a:solidFill>
                <a:latin typeface="Arial"/>
              </a:rPr>
              <a:t>حذف ملف أو مجلد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202716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قم بسحب رموز الملفات أو المجلدات إلى </a:t>
            </a:r>
            <a:r>
              <a:rPr b="1" lang="hi-IN" sz="3200" spc="-1" strike="noStrike">
                <a:solidFill>
                  <a:srgbClr val="0000ff"/>
                </a:solidFill>
                <a:latin typeface="Times New Roman"/>
              </a:rPr>
              <a:t>سلة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Times New Roman"/>
              </a:rPr>
              <a:t>المحذوفات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440" y="1219320"/>
            <a:ext cx="99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Times New Roman"/>
              </a:rPr>
              <a:t>لحذف ملف أو مجلد اتبع إحدى الطريقتين التاليتين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280" y="2209680"/>
            <a:ext cx="8839440" cy="5595480"/>
            <a:chOff x="152280" y="2209680"/>
            <a:chExt cx="8839440" cy="55954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52280" y="2209680"/>
              <a:ext cx="518184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410080" y="3811680"/>
              <a:ext cx="358164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buClr>
                  <a:srgbClr val="ff0000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eaeaea"/>
                  </a:solidFill>
                  <a:latin typeface="Times New Roman"/>
                </a:rPr>
                <a:t> قم بتحديد الملف أو المجلد وذلك بالنقر عليه مرة واحده بالزر الأيسر ثم أضغط مفتاح </a:t>
              </a:r>
              <a:r>
                <a:rPr b="1" lang="ar-SA" sz="3200" spc="-1" strike="noStrike">
                  <a:solidFill>
                    <a:srgbClr val="0000ff"/>
                  </a:solidFill>
                  <a:latin typeface="Times New Roman"/>
                </a:rPr>
                <a:t>الحذف</a:t>
              </a:r>
              <a:r>
                <a:rPr b="1" lang="ar-SA" sz="3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de-AT" sz="3200" spc="-1" strike="noStrike">
                  <a:solidFill>
                    <a:srgbClr val="0000ff"/>
                  </a:solidFill>
                  <a:latin typeface="Times New Roman"/>
                </a:rPr>
                <a:t>Delete</a:t>
              </a:r>
              <a:r>
                <a:rPr b="1" lang="ar-SA" sz="3200" spc="-1" strike="noStrike">
                  <a:solidFill>
                    <a:srgbClr val="eaeaea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3300"/>
                </a:solidFill>
                <a:latin typeface="Arial"/>
              </a:rPr>
              <a:t>نقل ونسخ الملفات والمجلدات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438280"/>
            <a:ext cx="8001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إذا كنت تريد سحب ملف أو مجلد الى موقع على القرص نفسه , فسيفترض ويندوز أنك تريد نقله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اذا كنت تريد سحب ملف أو مجلد الى قرص آخر , فسيفترض ويندوز أنك تريد نسخه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35560" y="4572000"/>
            <a:ext cx="448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eaeaea"/>
                </a:solidFill>
                <a:latin typeface="Times New Roman"/>
              </a:rPr>
              <a:t>في هذا الدرس سوف نتعلم :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hi-IN" sz="2400" spc="-1" strike="noStrike" u="sng">
                <a:solidFill>
                  <a:srgbClr val="eec85e"/>
                </a:solidFill>
                <a:uFillTx/>
                <a:latin typeface="Times New Roman"/>
                <a:hlinkClick r:id="rId1" action="ppaction://hlinksldjump"/>
              </a:rPr>
              <a:t>كيفية نسخ الملفات والمجلدات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hi-IN" sz="2400" spc="-1" strike="noStrike" u="sng">
                <a:solidFill>
                  <a:srgbClr val="eec85e"/>
                </a:solidFill>
                <a:uFillTx/>
                <a:latin typeface="Times New Roman"/>
                <a:hlinkClick r:id="rId2" action="ppaction://hlinksldjump"/>
              </a:rPr>
              <a:t>كيفية نقل الملفات والمجلدات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4158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أسهل طريقة لنقل ونسخ الملفات والمجلدات هي سحبها من مجلد الى آخر وإليك بعض اللمحات البسيطة التي ينبغي معرفتها :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نسخ الملفات والمجلدات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4160" y="2317680"/>
            <a:ext cx="8661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نسخ ملف أو مجلد يعني إنشاء نسخة مطابقة عن محتويات الملف أو المجلد  ووضعه على القرص الذي تحدده 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النسخ باستخدام الفأرة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704960"/>
            <a:ext cx="7162920" cy="66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حدد الملف أو المجلد الذي تريد نسخه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لنسخ الملف أو المجلد إلى قرص آخر , قم بسحبه الى مجلد الوجهة . ولنسخه على القرص نفسه , قم بضغط مفتاح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حكم </a:t>
            </a:r>
            <a:r>
              <a:rPr b="1" lang="de-AT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trl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أثناء سحب الملف أو المجلد إلى الموقع الجديد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حرر زر الفارة ومفتاح التحكم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trl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النسخ باستخدام الأوامر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971800"/>
            <a:ext cx="51051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من القائمة اختر الأمر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</a:rPr>
              <a:t>نسخ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حدد محرك أو مجلد الوجهة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(الموقع الجديد)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انقر بزر الفارة الأيمن فوق مكان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فارغ  واختر من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القائمة الأمر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</a:rPr>
              <a:t>لصق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3160" y="1295280"/>
            <a:ext cx="467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زر الفارة الأيمن فوق الملف أو المجلد الذي تريد نسخه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280" y="1523880"/>
            <a:ext cx="9204840" cy="4105440"/>
            <a:chOff x="152280" y="1523880"/>
            <a:chExt cx="9204840" cy="4105440"/>
          </a:xfrm>
        </p:grpSpPr>
        <p:graphicFrame>
          <p:nvGraphicFramePr>
            <p:cNvPr id="150" name=""/>
            <p:cNvGraphicFramePr/>
            <p:nvPr/>
          </p:nvGraphicFramePr>
          <p:xfrm>
            <a:off x="152280" y="1523880"/>
            <a:ext cx="3886200" cy="410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523880"/>
                      <a:ext cx="3886200" cy="410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4252680" y="2376360"/>
              <a:ext cx="51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buClr>
                  <a:srgbClr val="0000ff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cc3300"/>
                  </a:solidFill>
                  <a:latin typeface="Times New Roman"/>
                </a:rPr>
                <a:t>سوف تظهر قائمة مختصرة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25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نقل الملفات والمجلدات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2133720"/>
            <a:ext cx="716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   نقل ملف أو مجلد يعني إزالته من القرص أو المجلد الذي تم تخزينه فيه في بادئ الأمر ثم وضعه على القرص أو المجلد الجديد الذي تحدده 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45-03-18T15:59:04Z</dcterms:created>
  <dc:creator>thamer</dc:creator>
  <dc:description/>
  <dc:language>en-US</dc:language>
  <cp:lastModifiedBy>thamer</cp:lastModifiedBy>
  <dcterms:modified xsi:type="dcterms:W3CDTF">2045-03-18T16:28:50Z</dcterms:modified>
  <cp:revision>3</cp:revision>
  <dc:subject/>
  <dc:title>الشريحة 1</dc:title>
</cp:coreProperties>
</file>